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DF2-2AF8-4FE4-A901-8BC7FCAF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96B-DA62-4D06-9FCF-95966E59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B34-DFB9-411E-ADE5-2B5BAE8F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475-1C6D-428F-8E6F-75DDA28B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D9E0F-80AD-48CA-A65E-2E58AC01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70213-3C76-4986-9C09-D9658D7D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4FC06-3B3D-46DF-BCB9-EB99D07D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77862-31D5-4BF3-BF59-D4B55122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02D42-D585-41C7-BBA2-F23330B2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8C745-0D4D-4A26-B9B9-4E86F50D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DF79B-0C7F-452D-85EC-CCC23780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2A3-7E08-45EE-9547-39A66AA9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F91CF-0C90-4FA7-80F0-38CA3F93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A4050-DD01-4369-8F4F-E4A8ECB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76CA1-90B0-4575-B4F2-3CEFD5C7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B6062-148B-4B3F-B965-BDE9DBEC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72C1C-B74B-4F81-841D-B762007B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DD8-C161-4840-AD34-43F75126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E68-C5FA-4341-9ACC-4B445A6A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59E-E87C-4AA5-A023-14EF7879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957-87D8-4ED7-AB3C-4B986F8C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115-1114-44AA-8DC3-0A24B41A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936-2983-4EE4-ACE1-D6D2F31E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07C-6E54-4CAE-9FE0-8D61CD55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1029-41E8-431A-A02A-0E6B6BF3AEA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4145-4FE6-4980-881F-7419194EBB1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Times New Roman"/>
              </a:rPr>
              <a:t>IDENTIFICAR Y RETENER TALEN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414320" y="263520"/>
            <a:ext cx="102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CPCECA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Abril 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6308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ffffff"/>
                </a:solidFill>
                <a:latin typeface="Times New Roman"/>
              </a:rPr>
              <a:t>Luis Perez van Morlegan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AR" sz="1200" spc="-1" strike="noStrike">
                <a:solidFill>
                  <a:srgbClr val="ffffff"/>
                </a:solidFill>
                <a:latin typeface="Times New Roman"/>
              </a:rPr>
              <a:t>Prohibida reproducción total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461440" y="638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ffff"/>
                </a:solidFill>
                <a:latin typeface="Times New Roman"/>
              </a:rPr>
              <a:t>IDENTIFICAR Y RETENER TAL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6308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ffffff"/>
                </a:solidFill>
                <a:latin typeface="Times New Roman"/>
              </a:rPr>
              <a:t>Luis Perez van Morlegan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AR" sz="1200" spc="-1" strike="noStrike">
                <a:solidFill>
                  <a:srgbClr val="ffffff"/>
                </a:solidFill>
                <a:latin typeface="Times New Roman"/>
              </a:rPr>
              <a:t>Prohibida reproducción total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461440" y="638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3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86000" y="2224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4520" y="119700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cc00"/>
                </a:solidFill>
                <a:latin typeface="Times New Roman"/>
              </a:rPr>
              <a:t>3. IDENTIFICAR Y DETEC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844640"/>
            <a:ext cx="1655640" cy="144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¿Có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detectar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extern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1722600"/>
            <a:ext cx="477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Head Hunting: niveles a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Planes JP’s: niveles baj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¿Cuánto esperar a que el talento aparezca?. Los tiempos de las empre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La situación actual del mercado laboral en cuanto a la detección de tal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¿Cómo hacer atractiva la organización para que un talento desee sumarse a 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Hacer que la ventaja competitiva sea la gente y que uno nunca quiera irse de allí. Requiere un esfuerzo sistemático de ret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5080" y="262080"/>
            <a:ext cx="10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PCECA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Abril 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stock photo : Profiles of people - work and fun"/>
          <p:cNvPicPr/>
          <p:nvPr/>
        </p:nvPicPr>
        <p:blipFill>
          <a:blip r:embed="rId2"/>
          <a:stretch/>
        </p:blipFill>
        <p:spPr>
          <a:xfrm>
            <a:off x="539640" y="3357720"/>
            <a:ext cx="24368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Times New Roman"/>
              </a:rPr>
              <a:t>IDENTIFICAR Y RETENER TALEN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6308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ffffff"/>
                </a:solidFill>
                <a:latin typeface="Times New Roman"/>
              </a:rPr>
              <a:t>Luis Perez van Morlegan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AR" sz="1200" spc="-1" strike="noStrike">
                <a:solidFill>
                  <a:srgbClr val="ffffff"/>
                </a:solidFill>
                <a:latin typeface="Times New Roman"/>
              </a:rPr>
              <a:t>Prohibida reproducción total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61440" y="638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1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86000" y="2224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1280" y="2298600"/>
            <a:ext cx="34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IDENTIFICAR Y DETEC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RETE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67120" y="3306600"/>
            <a:ext cx="491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Son dos acciones disti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Requieren analizarse por sepa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Tienen herramientas y efectos distintos en la motivación de los tal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640" y="189000"/>
            <a:ext cx="10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PCECA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Abril 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stock photo : hombre de negocios que diseña un plan de la base de datos enuna pantalla"/>
          <p:cNvPicPr/>
          <p:nvPr/>
        </p:nvPicPr>
        <p:blipFill>
          <a:blip r:embed="rId2"/>
          <a:stretch/>
        </p:blipFill>
        <p:spPr>
          <a:xfrm>
            <a:off x="5580000" y="692280"/>
            <a:ext cx="3203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Times New Roman"/>
              </a:rPr>
              <a:t>IDENTIFICAR Y RETENER TALEN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6308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ffffff"/>
                </a:solidFill>
                <a:latin typeface="Times New Roman"/>
              </a:rPr>
              <a:t>Luis Perez van Morlegan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AR" sz="1200" spc="-1" strike="noStrike">
                <a:solidFill>
                  <a:srgbClr val="ffffff"/>
                </a:solidFill>
                <a:latin typeface="Times New Roman"/>
              </a:rPr>
              <a:t>Prohibida reproducción total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61440" y="638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86000" y="2224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1484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ALGUNAS CONSIDERACIONES SOBRE EL MERCADO LABORAL A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2637000"/>
            <a:ext cx="68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No es igual a la crisis 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Se notó mucho (hasta hoy) desde 15/12/08 hasta 15/03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Igualmente requiere al menos una acción combinada de los siguientes element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40720" y="260280"/>
            <a:ext cx="10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PCECA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Abril 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47840" y="4457880"/>
            <a:ext cx="54928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El destino laboral y el plan de carrera son patrimonio individual no corpor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ada uno debe cotejar sus actuales o potenciales competencias con las que exige y exigirá el mercado en los próximos dos añ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iempre hay un lugar donde las competencias pueden ser requerid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ero se exige una actitud activa para brillar en el puesto actual o para buscar otra ocupación donde los talentos que se poseen sean reconoci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Times New Roman"/>
              </a:rPr>
              <a:t>IDENTIFICAR Y RETENER TALEN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6308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ffffff"/>
                </a:solidFill>
                <a:latin typeface="Times New Roman"/>
              </a:rPr>
              <a:t>Luis Perez van Morlegan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AR" sz="1200" spc="-1" strike="noStrike">
                <a:solidFill>
                  <a:srgbClr val="ffffff"/>
                </a:solidFill>
                <a:latin typeface="Times New Roman"/>
              </a:rPr>
              <a:t>Prohibida reproducción total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61440" y="638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86000" y="2224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484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ALGUNAS CONSIDERACIONES SOBRE EL MERCADO LABORAL ACTUAL (continua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2637000"/>
            <a:ext cx="68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No hay talento absoluto ni falta de talento absol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Las empresas hoy buscan talentos que obtengan 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Y que brillen en tres focos ese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5080" y="260280"/>
            <a:ext cx="10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PCECA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Abril 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47840" y="4457880"/>
            <a:ext cx="5492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Generar ca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Reducir cos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Generar más clien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stock photo : Attractive man and woman business team shaking hands at office building"/>
          <p:cNvPicPr/>
          <p:nvPr/>
        </p:nvPicPr>
        <p:blipFill>
          <a:blip r:embed="rId2"/>
          <a:stretch/>
        </p:blipFill>
        <p:spPr>
          <a:xfrm>
            <a:off x="5796000" y="3933720"/>
            <a:ext cx="27716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Times New Roman"/>
              </a:rPr>
              <a:t>IDENTIFICAR Y RETENER TALEN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6308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ffffff"/>
                </a:solidFill>
                <a:latin typeface="Times New Roman"/>
              </a:rPr>
              <a:t>Luis Perez van Morlegan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AR" sz="1200" spc="-1" strike="noStrike">
                <a:solidFill>
                  <a:srgbClr val="ffffff"/>
                </a:solidFill>
                <a:latin typeface="Times New Roman"/>
              </a:rPr>
              <a:t>Prohibida reproducción total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61440" y="638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1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6000" y="2224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1484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ALGUNAS CONSIDERACIONES SOBRE EL MERCADO LABORAL ACTUAL (continua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637000"/>
            <a:ext cx="68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No hay talento absoluto ni falta de talento absol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Las empresas hoy buscan talentos que obtengan 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Y que brillen en tres focos ese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8000" y="260280"/>
            <a:ext cx="10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PCECA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Abril 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47840" y="4457880"/>
            <a:ext cx="5492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Generar ca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Reducir cos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Generar más clien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stock photo : business group  coaching"/>
          <p:cNvPicPr/>
          <p:nvPr/>
        </p:nvPicPr>
        <p:blipFill>
          <a:blip r:embed="rId2"/>
          <a:stretch/>
        </p:blipFill>
        <p:spPr>
          <a:xfrm>
            <a:off x="5651640" y="3933720"/>
            <a:ext cx="28429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Times New Roman"/>
              </a:rPr>
              <a:t>IDENTIFICAR Y RETENER TALEN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6308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ffffff"/>
                </a:solidFill>
                <a:latin typeface="Times New Roman"/>
              </a:rPr>
              <a:t>Luis Perez van Morlegan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AR" sz="1200" spc="-1" strike="noStrike">
                <a:solidFill>
                  <a:srgbClr val="ffffff"/>
                </a:solidFill>
                <a:latin typeface="Times New Roman"/>
              </a:rPr>
              <a:t>Prohibida reproducción total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61440" y="638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86000" y="2224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1484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ALGUNAS CONSIDERACIONES SOBRE EL MERCADO LABORAL ACTUAL (continua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2637000"/>
            <a:ext cx="68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El talento es buscado por las empresas para salir de la 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Pero no es fácil hallarlo y menos retenerlo en el mercado a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Ejemplos: sistemas, comercial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5080" y="262080"/>
            <a:ext cx="10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PCECA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Abril 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ffffff"/>
                </a:solidFill>
                <a:latin typeface="Times New Roman"/>
              </a:rPr>
              <a:t>IDENTIFICAR Y RETENER TALEN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6308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ffffff"/>
                </a:solidFill>
                <a:latin typeface="Times New Roman"/>
              </a:rPr>
              <a:t>Luis Perez van Morlegan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AR" sz="1200" spc="-1" strike="noStrike">
                <a:solidFill>
                  <a:srgbClr val="ffffff"/>
                </a:solidFill>
                <a:latin typeface="Times New Roman"/>
              </a:rPr>
              <a:t>Prohibida reproducción total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61440" y="638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1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86000" y="2224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484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ALGUNAS CONSIDERACIONES SOBRE EL MERCADO LABORAL ACTUAL (continua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2637000"/>
            <a:ext cx="68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El talento es buscado por las empresas para salir de la 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Pero no es fácil hallarlo y menos retenerlo en el mercado ac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Times New Roman"/>
              </a:rPr>
              <a:t>Ejemplos: sistemas, comercial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5080" y="262080"/>
            <a:ext cx="10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PCECA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Abril 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stock photo : Businesspeople shaking hands in a light and modern downtown."/>
          <p:cNvPicPr/>
          <p:nvPr/>
        </p:nvPicPr>
        <p:blipFill>
          <a:blip r:embed="rId2"/>
          <a:stretch/>
        </p:blipFill>
        <p:spPr>
          <a:xfrm>
            <a:off x="5724360" y="4005360"/>
            <a:ext cx="291636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ffff"/>
                </a:solidFill>
                <a:latin typeface="Times New Roman"/>
              </a:rPr>
              <a:t>IDENTIFICAR Y RETENER TAL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6308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ffffff"/>
                </a:solidFill>
                <a:latin typeface="Times New Roman"/>
              </a:rPr>
              <a:t>Luis Perez van Morlegan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AR" sz="1200" spc="-1" strike="noStrike">
                <a:solidFill>
                  <a:srgbClr val="ffffff"/>
                </a:solidFill>
                <a:latin typeface="Times New Roman"/>
              </a:rPr>
              <a:t>Prohibida reproducción total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61440" y="638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3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86000" y="2224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4520" y="119700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cc00"/>
                </a:solidFill>
                <a:latin typeface="Times New Roman"/>
              </a:rPr>
              <a:t>3. IDENTIFICAR Y DETEC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1989000"/>
            <a:ext cx="1656000" cy="144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¿Qué es 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Talen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43480" y="1793880"/>
            <a:ext cx="542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Cualidades extraordina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Trasg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Tolerancia empresaria a la trasg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Límites a la expresión del tal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¿El talento cambia según las organizacion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¿Cuántos “talentos” estamos dispuestos a tolerar y a administr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5080" y="262080"/>
            <a:ext cx="10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PCECA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Abril 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stock photo : Businessman and businesswoman lined up getting ready for race in business"/>
          <p:cNvPicPr/>
          <p:nvPr/>
        </p:nvPicPr>
        <p:blipFill>
          <a:blip r:embed="rId2"/>
          <a:stretch/>
        </p:blipFill>
        <p:spPr>
          <a:xfrm>
            <a:off x="395280" y="3860640"/>
            <a:ext cx="2771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ffffff"/>
                </a:solidFill>
                <a:latin typeface="Times New Roman"/>
              </a:rPr>
              <a:t>IDENTIFICAR Y RETENER TAL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6308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ffffff"/>
                </a:solidFill>
                <a:latin typeface="Times New Roman"/>
              </a:rPr>
              <a:t>Luis Perez van Morlegan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AR" sz="1200" spc="-1" strike="noStrike">
                <a:solidFill>
                  <a:srgbClr val="ffffff"/>
                </a:solidFill>
                <a:latin typeface="Times New Roman"/>
              </a:rPr>
              <a:t>Prohibida reproducción total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461440" y="638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Times New Roman"/>
              </a:rPr>
              <a:t>3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86000" y="22240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4520" y="119700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cc00"/>
                </a:solidFill>
                <a:latin typeface="Times New Roman"/>
              </a:rPr>
              <a:t>3. IDENTIFICAR Y DETEC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844640"/>
            <a:ext cx="1655640" cy="144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¿Có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dentificar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nternamen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00560" y="1793880"/>
            <a:ext cx="470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Evaluación de Pot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Assessment Center o Management 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Evaluación de desempeñ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People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Definir Key Pers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¿Hay una estrategia para Key Persons y otra para los que no lo s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Tarea sistemática y alineada con la estrate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5080" y="262080"/>
            <a:ext cx="10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CPCECA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Abril 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stock photo : multiple business men isolated on white background"/>
          <p:cNvPicPr/>
          <p:nvPr/>
        </p:nvPicPr>
        <p:blipFill>
          <a:blip r:embed="rId2"/>
          <a:stretch/>
        </p:blipFill>
        <p:spPr>
          <a:xfrm>
            <a:off x="395280" y="3645000"/>
            <a:ext cx="27716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5:11:29Z</dcterms:created>
  <dc:creator>LUIS</dc:creator>
  <dc:description/>
  <dc:language>en-US</dc:language>
  <cp:lastModifiedBy>CPCEACABA</cp:lastModifiedBy>
  <dcterms:modified xsi:type="dcterms:W3CDTF">2009-04-23T13:50:38Z</dcterms:modified>
  <cp:revision>11</cp:revision>
  <dc:subject/>
  <dc:title>IDENTIFICAR Y RETENER TALENTOS</dc:title>
</cp:coreProperties>
</file>